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3C19A-7859-4021-8AA3-120DC017E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9DE4-1828-4D66-8547-6FF4DFA52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61D67-CCC0-4E15-9EA8-4C260CB97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7AF6D-AE41-4FFE-AE06-8027D8EC4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FB30-CD5A-4708-97AA-22AB6126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5B38C-F3F4-4D71-BD83-F5268CB7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DA94-66D1-44DC-8771-D570637F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5412-87EA-4683-9F9B-CD619F2E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7212-350D-43CE-BBC4-A77E17AB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3FC4-6836-4ACF-A979-E73E22851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A228-2B51-48EB-9718-71A0C36DB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48D3-6A0C-471C-AFA9-8E010C4E8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206B-4558-4150-8977-F72FC913A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74680"/>
            <a:ext cx="79246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ction="ppaction://hlinksldjump"/>
              </a:rPr>
              <a:t>Chapter Fourteen </a:t>
            </a:r>
            <a:br>
              <a:rPr sz="3200"/>
            </a:br>
            <a:r>
              <a:rPr b="1" lang="en-US" sz="3200" spc="-1" strike="noStrike">
                <a:solidFill>
                  <a:srgbClr val="000000"/>
                </a:solidFill>
                <a:latin typeface="Arial"/>
              </a:rPr>
              <a:t>Children as Offenders </a:t>
            </a:r>
            <a:br>
              <a:rPr sz="3200"/>
            </a:br>
            <a:endParaRPr b="0" lang="en-US" sz="3200" spc="-1" strike="noStrike">
              <a:solidFill>
                <a:srgbClr val="000000"/>
              </a:solidFill>
              <a:latin typeface="Arial"/>
            </a:endParaRPr>
          </a:p>
        </p:txBody>
      </p:sp>
      <p:sp>
        <p:nvSpPr>
          <p:cNvPr id="42"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The Role of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Relevant Statu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Criminal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Controlled Drugs and Substances Ac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Criminal Justice Ac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ces Affecting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ishment in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ces Committed Outside School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Offenc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cene Remarks or Gestur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 of Sports Rule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in School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nd Polic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and Seizure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encing Young Offender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pter categorizes offences committed by children in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distinguish between offences that are handled within the school and those that require outside inter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have a very special legal status with respect to offences in general and criminal law in particul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as locations do not have such a stat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School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the offend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a recurrence of the offensiv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s the criminal justice system objective is to protect society from the offen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Young Criminal Justice Act</a:t>
            </a:r>
            <a:endParaRPr b="0" lang="en-US" sz="3600" spc="-1" strike="noStrike">
              <a:solidFill>
                <a:srgbClr val="000000"/>
              </a:solidFill>
              <a:latin typeface="Arial"/>
            </a:endParaRPr>
          </a:p>
        </p:txBody>
      </p:sp>
      <p:sp>
        <p:nvSpPr>
          <p:cNvPr id="47"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ion governing offences by persons between 12 and 18 years of ag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mitations of the criminal justice system in dealing with children are recognized in the “Principles and Objectives” section of the federal </a:t>
            </a:r>
            <a:r>
              <a:rPr b="0" i="1" lang="en-US" sz="2800" spc="-1" strike="noStrike">
                <a:solidFill>
                  <a:srgbClr val="000000"/>
                </a:solidFill>
                <a:latin typeface="Arial"/>
              </a:rPr>
              <a:t>Young Criminal Justice Act</a:t>
            </a:r>
            <a:r>
              <a:rPr b="0" lang="en-US" sz="2800" spc="-1" strike="noStrike">
                <a:solidFill>
                  <a:srgbClr val="000000"/>
                </a:solidFill>
                <a:latin typeface="Arial"/>
              </a:rPr>
              <a:t> which came into effect in the year 2003.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  extrajudicial measures are often the most appropriate and effective way to address youth crim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  extrajudicial measures should be used if they are adequate to hold a young person accountable for his or her offending behaviour and, if the use of extrajudicial measures is consistent with the principles set out in this section,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al prosecution is most appropriate for violent or repeated offences or when the protection of the public is an 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 officials are justified in conducting a preliminary investigation to determine the type of offence and its seriousne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have an interest in law, order, and public safety as the police do, and school authorities generally co-operate with police to further these objectiv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like parents, have a stake in protecting the rights of their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also have their distinctive interest in promoting the educational, social, and emotional development of stud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w Jersey v. T.L.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of the United States in a case that involved the warrantless search of a student's purse by an assistant vice-principal who was looking for tobacco but found marijua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held that, although the constitutional restriction against unreasonable search and seizure applies to searches by school officials, the student's reasonable expectation of privacy had to give way to the substantial need of school officials to maintain order in schoo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uling that the search was reasonable, the court made a clear distinction between teachers and police (74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20:33:02Z</dcterms:created>
  <dc:creator>B McNutt</dc:creator>
  <dc:description/>
  <dc:language>en-US</dc:language>
  <cp:lastModifiedBy>Owner</cp:lastModifiedBy>
  <dcterms:modified xsi:type="dcterms:W3CDTF">2011-02-28T23:20:15Z</dcterms:modified>
  <cp:revision>3</cp:revision>
  <dc:subject/>
  <dc:title>Chapter Fourteen  Children as Offenders</dc:title>
</cp:coreProperties>
</file>